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52C-B3CA-4E24-83E9-1F932543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7E88-C46D-4DEF-9B5B-8D6CAB17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382C-DEE5-4667-B8A9-6CE80DCF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BE19-AF59-4589-BD5B-F187F39B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FE3-27CD-4785-83B1-49748B45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85A6-11CA-4117-ACAD-12DAEFB1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8A2-7D5C-4375-A363-F16CED95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951-FBE6-4422-A0AA-A26182ED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C68C-C9E5-4A6D-A8F7-396B1407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1636-F622-4778-95D1-8D10B5FF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C07-68E3-4FC5-A4D2-5BB52F0E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D14B-CE74-4C43-A29A-D3B9EDB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EE30-14EB-4290-A2D6-F95CBB1243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620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28840" y="152388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362320" y="2666880"/>
            <a:ext cx="266688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30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500"/>
                            </p:stCondLst>
                            <p:childTnLst>
                              <p:par>
                                <p:cTn id="4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05520" y="2438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0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0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9520" y="14479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13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35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40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144792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250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3000"/>
                            </p:stCondLst>
                            <p:childTnLst>
                              <p:par>
                                <p:cTn id="5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3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4500"/>
                            </p:stCondLst>
                            <p:childTnLst>
                              <p:par>
                                <p:cTn id="5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182880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5105520" y="1828440"/>
            <a:ext cx="22096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3500"/>
                            </p:stCondLst>
                            <p:childTnLst>
                              <p:par>
                                <p:cTn id="5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038480" y="1600200"/>
            <a:ext cx="106704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5105520" y="1599840"/>
            <a:ext cx="220968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1828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2500"/>
                            </p:stCondLst>
                            <p:childTnLst>
                              <p:par>
                                <p:cTn id="6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0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4500"/>
                            </p:stCondLst>
                            <p:childTnLst>
                              <p:par>
                                <p:cTn id="6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029200" y="9907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0574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29200" y="1981080"/>
            <a:ext cx="175248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21337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6200" y="12193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885840" y="1218960"/>
            <a:ext cx="114300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1219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66688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2666880"/>
            <a:ext cx="1981080" cy="762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1981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028840" y="1066680"/>
            <a:ext cx="1143000" cy="1600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5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447920"/>
            <a:ext cx="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3200400" y="1447560"/>
            <a:ext cx="1295280" cy="99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762120"/>
            <a:ext cx="18288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819520" y="1447920"/>
            <a:ext cx="220968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1280" y="1447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50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5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304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.O angles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990720"/>
            <a:ext cx="2362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657600" y="990360"/>
            <a:ext cx="0" cy="19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1066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09680" y="3657600"/>
            <a:ext cx="2286000" cy="13716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5181480"/>
            <a:ext cx="2286000" cy="13716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24280" y="5181480"/>
            <a:ext cx="2286000" cy="1371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657600"/>
            <a:ext cx="2286000" cy="13716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0384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962520"/>
            <a:ext cx="1752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t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2:43:20Z</dcterms:created>
  <dc:creator>Laptops for Teachers</dc:creator>
  <dc:description/>
  <dc:language>en-US</dc:language>
  <cp:lastModifiedBy>Pitchford</cp:lastModifiedBy>
  <dcterms:modified xsi:type="dcterms:W3CDTF">2005-09-19T12:42:29Z</dcterms:modified>
  <cp:revision>5</cp:revision>
  <dc:subject/>
  <dc:title>PowerPoint Presentation</dc:title>
</cp:coreProperties>
</file>